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  <p:custShowLst>
    <p:custShow name="pre-quiz 1-1" id="0">
      <p:sldLst>
        <p:sld r:id="rId5"/>
        <p:sld r:id="rId6"/>
        <p:sld r:id="rId7"/>
        <p:sld r:id="rId8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D1D5-89F1-47A7-87AF-09B40EB4B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2DE8-775B-442F-93B1-FF7489CCD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66AD-3CC5-4970-B09E-9C32F98A2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6678-8553-4911-BF2D-FBBE3370F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3C75-2BA7-426E-8311-DF4AB4E81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96AB-EFD1-4407-BDC5-028674159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622E-C972-458A-9CB9-AD012A435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8629-3854-4FDD-BD91-102A3C446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C1C4-BB7F-46AE-8D51-795C8203D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FD52-3807-422D-A82C-43148DA45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D9D9-DB11-4455-96CB-0A4685E98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1E31-F76A-4105-B41C-9043334B2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3F83C-D289-4875-80BB-C7A72432FA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2286000"/>
            <a:ext cx="838224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e-Quiz Section 1.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-Quiz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133720" y="1447920"/>
            <a:ext cx="4724280" cy="916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85760" y="3176640"/>
            <a:ext cx="8772480" cy="5047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304920" y="3733920"/>
            <a:ext cx="6524640" cy="7347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380880" y="4343400"/>
            <a:ext cx="7162920" cy="7462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352440" y="5105520"/>
            <a:ext cx="8258040" cy="8413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-Qui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38088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l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correspondence between two se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1295280"/>
            <a:ext cx="7315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x and y are two elements in these sets and if a relation exists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n we say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rresponds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r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epends 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we wri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819520" y="3124080"/>
            <a:ext cx="3314520" cy="31719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666880" y="380880"/>
            <a:ext cx="5257800" cy="685800"/>
          </a:xfrm>
          <a:prstGeom prst="rect">
            <a:avLst/>
          </a:prstGeom>
          <a:solidFill>
            <a:srgbClr val="e1340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380880"/>
            <a:ext cx="5333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52280" y="3492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13405"/>
                </a:solidFill>
                <a:latin typeface="Arial"/>
              </a:rPr>
              <a:t>1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429000" y="380880"/>
            <a:ext cx="2362320" cy="581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Arial"/>
              </a:rPr>
              <a:t>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228600" y="1676520"/>
            <a:ext cx="8772480" cy="723960"/>
          </a:xfrm>
          <a:prstGeom prst="rect">
            <a:avLst/>
          </a:prstGeom>
          <a:ln w="28440">
            <a:solidFill>
              <a:srgbClr val="0066cc"/>
            </a:solidFill>
            <a:miter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2057400" y="2819520"/>
            <a:ext cx="4572000" cy="34318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04920" y="2057400"/>
            <a:ext cx="6629400" cy="228600"/>
          </a:xfrm>
          <a:prstGeom prst="rect">
            <a:avLst/>
          </a:prstGeom>
          <a:solidFill>
            <a:srgbClr val="e1340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52280" y="10666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13405"/>
                </a:solidFill>
                <a:latin typeface="Arial"/>
              </a:rPr>
              <a:t>2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7745400" cy="29192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3520" y="3962520"/>
            <a:ext cx="8280360" cy="23731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724280" y="2209680"/>
            <a:ext cx="2667240" cy="838440"/>
          </a:xfrm>
          <a:prstGeom prst="rect">
            <a:avLst/>
          </a:prstGeom>
          <a:solidFill>
            <a:srgbClr val="e1340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724280" y="5105520"/>
            <a:ext cx="2667240" cy="838080"/>
          </a:xfrm>
          <a:prstGeom prst="rect">
            <a:avLst/>
          </a:prstGeom>
          <a:solidFill>
            <a:srgbClr val="e1340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52280" y="10666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13405"/>
                </a:solidFill>
                <a:latin typeface="Arial"/>
              </a:rPr>
              <a:t>3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46926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13405"/>
                </a:solidFill>
                <a:latin typeface="Arial"/>
              </a:rPr>
              <a:t>4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09480" y="380880"/>
            <a:ext cx="7656480" cy="26085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609480" y="3398760"/>
            <a:ext cx="7745400" cy="32306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4648320" y="1600200"/>
            <a:ext cx="2133360" cy="914400"/>
          </a:xfrm>
          <a:prstGeom prst="rect">
            <a:avLst/>
          </a:prstGeom>
          <a:solidFill>
            <a:srgbClr val="e1340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809880" y="4876920"/>
            <a:ext cx="1295640" cy="1295280"/>
          </a:xfrm>
          <a:prstGeom prst="rect">
            <a:avLst/>
          </a:prstGeom>
          <a:solidFill>
            <a:srgbClr val="e1340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6320" y="10666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13405"/>
                </a:solidFill>
                <a:latin typeface="Arial"/>
              </a:rPr>
              <a:t>5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6320" y="50734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13405"/>
                </a:solidFill>
                <a:latin typeface="Arial"/>
              </a:rPr>
              <a:t>6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3T22:05:03Z</dcterms:created>
  <dc:creator>Harry S. Mills</dc:creator>
  <dc:description/>
  <dc:language>en-US</dc:language>
  <cp:lastModifiedBy>Harry S. Mills</cp:lastModifiedBy>
  <dcterms:modified xsi:type="dcterms:W3CDTF">2008-01-18T01:26:22Z</dcterms:modified>
  <cp:revision>6</cp:revision>
  <dc:subject/>
  <dc:title>Slide 1</dc:title>
</cp:coreProperties>
</file>